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A7C6-797C-44C6-8E0B-B58ACB541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2D4C-0250-463D-B47C-EE6C86AD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EBAD-A282-41E7-B3A3-0DABD0E1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10F7-27FA-499D-8AB2-44697C99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0DEF-EDB2-4686-8230-491D1F3F5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4D09-6AFE-490A-96CD-6F1E8A63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56FB-85B5-4226-904E-2FFEBAF9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9640-7D9B-42F7-8CDF-6A237169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CBE6-8463-46EE-BD7B-341124EF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6565-456C-4CF2-ADB6-1B3D021F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DAC4-777C-4307-97D4-02154E1E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8C04-6A73-4706-B78D-D395FCEB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57F3-C1A4-4322-B91A-923F200D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EDD9-EAB8-4454-965A-1DE338AF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8ABF-9368-4B80-94DC-A71DFCFA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3EBF-CC03-4FFB-A19D-49328C61A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5E93-70EC-4778-B443-94B5C776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3042-6287-4200-B1C9-FC93CC1B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1903-C38C-4F56-BD54-079B7333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5290-4B33-4286-A279-3B9B2856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0546-4995-4BC4-A57C-D6D33CEF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E7F3-7723-412B-A2DA-38881D9E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78B7-6FB6-43EC-A337-B538B922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A7EC-FFEB-4F2E-A9B0-821F2794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2FA4-CB77-4D68-A618-C7AFE01DA2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4AD5-A867-45ED-A754-9BA4C8A410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ive 1: Relate the Conservation of Energy to energy transform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how energy--mechanical, electrical, chemical, light, sound, and heat--can be transformed from one form to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w understanding that energy transformations result in no net gain or loss of energy, but that in energy conversions less energy is available due to heat lo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magnetic vs Soun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vel at the “speed of light”, 186,000 miles/second or 300,000,000 m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ve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need a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vel through outer space, all across the unive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7080" y="15998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vels MANY MANY times slower, only about 370 m/s (almost a million times slower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itud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not travel through outer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ergy gets dispersed(spreads out) quick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ER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bility to “do work” or make a CHANGE in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ergy has many forms, and all can be transformed from one to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 CONSTANT amount of energy in any given closed system, even in the universe as a whol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ERGY AND WOR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“ideal system” means NO friction, and no energy “lost” as he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ergy is NEVER destroyed.  It is only “lost” if it becomes unus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n ideal system (or machine), you get ALL the energy OUT that you had to put IN.  This is called 100% efficienc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NO “ideal systems” in real lif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REAL LIFE some energy is ALWAYS changed to “lost” heat because of frictio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ERGY AND WORK UNI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78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SS is measured in kilograms [kg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IGHT and other FORCES are measured in NEWTONS [N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ERGY is usually measured in Joules [J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is usually measured in Newton-meters [N m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CE ENERGY AND WORK ARE EQUAL, A JOULE IS EQUAL TO A NEWTON-METER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TENTIAL ENER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305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STORED ENER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ly means GRAVITATIONAL potential energy, or energy stored because of a position HIGHER than some reference point (like the groun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tential energy continue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ELASTIC OR SPRING potential energy, like the energy stored in a stretched rubber band, the spring in a wind up toy, or a drawn bow before shooting an arr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tential energy is also stored in batteries, as CHEMICAL potential energy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TENTIAL ENERGY continue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TENTIAL ENERGY can also be stored up in chemical bonds, such as in food or f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 tremendous amount of potential energy in MASS ITSELF, as Einstein showed with E = m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S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elf is like VERY concentrated, congealed energy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vitational potential energy is described by PE = mgh       or mass x gravity x heigh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INETIC ENER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ergy of motion (kine- means MOTION, like cinema means moving picture or movie!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 = 1/2 mass times velocity squa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omething is NOT MOVING, is has ZERO KINETIC ENERGY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n “ideal system,” ALL (or 100%) of the WORK you put IN can be changed to 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real machines, most energy is changed to heat.  A car is only about 30% efficient! Only 30% of the gas gets changed to K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TENTIAL energy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885680"/>
            <a:ext cx="91440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rock has a mass of 5 kg, and it is on a hill 2 m high, how much PE does it ha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 = mgh   [or mass in kg x height in meters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 = 10 m/s/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ight in Newtons = mass in kg x gravity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 =    weight in Newtons x height in meters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 PE = 5 kg (10 m/s/s) (2m) = 100 Joules or 100 J 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 Probl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If a rock has 5 kg of mass and is lifted up a 1 m hill, how much PE does it ha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If a rock has has 20 N of weight and sits on top of a 2 meter tall box, how much potential energy does it ha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ply Conservation of Ener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y the concept of conservation and transformation of energy within and between organisms and the environment--such as food chains, food webs, and energy pyrami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y the concept of conservation and transformation of energy to other everyday phenome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 Solu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PE = m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 PE = 5 kg x 10 m/s/s x 1 m = 50 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E = weight x heigh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 PE = 20 N x 2 meters =40 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inder:  Weight = mass x gravity.  For example, 2 kg of mass X 10 m/s/s = 20 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inetic energy example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 = 1/2 mass x velocity squa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3,000 kg car is traveling at 10 m/s, how much KE does it ha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 = 1/2 (3,000 kg) (10 m/s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1,500 (100) = 150,000 J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inetic energy problems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If a 60 kg girl is running at 5 m/s, how much Kinetic energy does she ha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If the girl stops and sits on a bench to rest, how much kinetic energy does she ha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inetic energy solu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KE = 1/2 mv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 KE = 1/2 (60 kg) (5 m/s)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 KE = 30 (25) = 750 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KE = 1/2 (60 kg) (0 m/s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 KE = 0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e is not moving, so she has no Kinetic energy while sitting on the bench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tential and Kinetic, transferred back and forth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do 20 J of WORK lifting a rock onto a table, how much PE does the rock ha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he rock then falls off the table, how much KINETIC ENERGY does it have just before it hits the floo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did the rock GET the kinetic energ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the rock smashes into the floor, where does the energy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E if you double ma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had instead lifted a rock with TWICE as much mass, how much more WORK would you have put in to lift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much more PE would it have had at the top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much more KE at the botto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f you lifted more dist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, instead of lifting a rock with twice the mass, you lifted the SAME rock twice the height, how much more WORK would you have don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you lifted a rock with TWICE the MASS a distance TWICE AS FAR?  How much more Work would you have to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ller Co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a roller coaster, at what point is your POTENTIAL ENERGY great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is your KINETIC ENERGY great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gnoring energy “lost” as heat due to friction, what can you say about the TOTAL amount of energy for the whole ride on the roller coast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ller Coaster continue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you go DOWN a hill on the ride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kind of energy is being transferred to what other kin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you go UP a hill on the ride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kind of energy is being transferred to what other kin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ergy transferred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is energy transferred from the SUN, to you walking down the sidewal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hit a baseball, describe the energy changes occurring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throw a ball into the air.  What energy transformations are taking plac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ive 2: Relate waves to the transfer of ener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wavelength to ener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frequency to ener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wavelength to frequ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how waves travel through different kinds of 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ter, Sound, Slinky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MENTUM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1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Momentum is mass X velocit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p = mv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The unit is kg m/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Law of Conservation of Momentu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mentum in a closed system is ALWAYS CONSER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mentum “before” an event is equal to momentum “after” an event in th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ic examples are explosions, car crashes, pool balls, &amp; shooting a gu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mentum conserved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collision, if one pool ball collides into another one that is at rest, pool ball 1 “shares” some momentum with pool ball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TOTAL momentum of both pool balls added together is THE SAME before and after the colli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= p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Impulse Momentum Theore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in momentum is EQUAL to Impul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ULSE is equal to IMPACT (or force) times the TIME INTERVAL of the imp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h-PS"/>
                <a:ea typeface="Math-PS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= F</a:t>
            </a:r>
            <a:r>
              <a:rPr b="0" lang="en-US" sz="3200" spc="-1" strike="noStrike">
                <a:solidFill>
                  <a:srgbClr val="000000"/>
                </a:solidFill>
                <a:latin typeface="Math-PS"/>
                <a:ea typeface="Math-PS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      or </a:t>
            </a:r>
            <a:r>
              <a:rPr b="0" lang="en-US" sz="3200" spc="-1" strike="noStrike">
                <a:solidFill>
                  <a:srgbClr val="000000"/>
                </a:solidFill>
                <a:latin typeface="Math-PS"/>
                <a:ea typeface="Math-PS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mv) = F </a:t>
            </a:r>
            <a:r>
              <a:rPr b="0" lang="en-US" sz="3200" spc="-1" strike="noStrike">
                <a:solidFill>
                  <a:srgbClr val="000000"/>
                </a:solidFill>
                <a:latin typeface="Math-PS"/>
                <a:ea typeface="Math-PS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plic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it better to bend your knees when you jump off a tabl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do you move your hand backward when catching a fast pitch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do air bags help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does a karate expert often try to have a SHORT time of impa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re applic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only want maximum velocity, such as trying to achieve maximum range of a golf ball, you should hit the ball wi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) a short time of imp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) a long time of imp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) it makes no differ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pplications continue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40744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building is on fire and you want to minimize the force of impact on your bones when you jump from the 2nd story window, you shou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) land with straight le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) land on your feet but bend kne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) drop and roll to maximize time of imp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56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cribe how waves can be destructive &amp;/or benefici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how waves--earthquake waves, water waves, and electromagnetic waves--can be destructive (harmful) or beneficial (good) due to the transfer of ener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truction (c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nefits (pro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LL WAV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er energy from one place to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ergy transferred does NOT have ma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ual particles of the wave (such as water waves) are NOT transferred, but stay in the same pl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wavelength, frequency, amplit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RTER WAVELENGTH means HIGHER FREQUENCY AND ENERGY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chanical vs. Electromagnetic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4724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 medium, or something to travel through (cannot travel through spa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ter waves, waves in a rope or slinky, and sound waves are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343040" y="1752120"/>
            <a:ext cx="4521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NO medium, can travel through outer spac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 of ELECTROMAGNETIC WAV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magnetic waves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rom low to high frequency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581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DIO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RO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HEA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BLE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LTRAVIO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-RAYS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MMA R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733560" y="2209320"/>
            <a:ext cx="50036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wavelength, LOW frequency AND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wavelength, HIGH frequency AND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SIBLE LIGHT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a SMALL band of the EM spectr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ular “white” light can be separated into all the different colors with a pr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was discovered by Isaac Newto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 (longest wavelength, lowest energy) to VIOLET (shortest wavelength, highest energy)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Y G BIV stands for Red, Orange, Yellow, Green, Blue, Indigo, Viol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ngitudinal vs. Transvers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572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ression waves where one part of a medium smashes in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 particles travel parallel to the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ND WAVES are longitudinal.  They cannot travel in space because there is no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24280" y="1523520"/>
            <a:ext cx="401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and down waves, like wiggling a rope back and for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 particles travel perpendicular (at right angles) to the energy being transfer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waves are transvers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3T19:06:28Z</dcterms:created>
  <dc:creator>Ria Evans</dc:creator>
  <dc:description/>
  <dc:language>en-US</dc:language>
  <cp:lastModifiedBy>vevans</cp:lastModifiedBy>
  <dcterms:modified xsi:type="dcterms:W3CDTF">2003-09-03T14:45:46Z</dcterms:modified>
  <cp:revision>45</cp:revision>
  <dc:subject/>
  <dc:title>Objective 1: Relate the Conservation of Energy to energy transformations</dc:title>
</cp:coreProperties>
</file>